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9D2-CADA-458B-B962-49436998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640-A880-4B95-8FDA-D031F16D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E68-46D3-4CF2-A2B1-6A953D70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D24-B3E3-48C1-85BA-4AF85091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5A58-C05F-41A8-B45E-8832B5E9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E2DF-10D6-43FB-8B33-01D97700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B07C-2644-4ED6-AF17-E906D2B7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A455-86D0-48CB-AD65-4E921A2E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F17C-0294-423F-B581-77A1BADF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A9ED-AD78-464D-BFC7-FD92A5FD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8BCE-01B2-49B0-9158-B3CE4CB9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6A8-CF5B-4B61-894F-65B8E9DC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10F9-F752-44D5-8BD4-A18D88DE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EABA-3026-411C-90F6-4B610858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6369-D93C-4E02-8E8E-F4488563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30A6-85A2-4B47-B385-27828C06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E735-4646-4093-B8EB-A7AF8E10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1B9-71B5-4EE9-8644-B0258F38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DF0-2EB4-461D-AFE8-9EBFFBEF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4E9-BE46-4764-94DD-E19862B3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AD6-2A46-4DFF-A63E-4299E89D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CC2-D366-4778-878F-C49A5CFC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4EE-6E1A-4955-839B-9BB11DD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E88-B3B3-4398-9F8A-331EFD46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1B2E-F311-46AD-AB25-30FBB58AE7E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38EE-8041-4CF7-9AD0-2C5F36E9DB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Leņķu ve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92360" y="4243320"/>
            <a:ext cx="598464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lielāks nekā taisns un maz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lat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50920" y="4869000"/>
            <a:ext cx="20890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843280" y="3789000"/>
            <a:ext cx="1008000" cy="1079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295600">
            <a:off x="3558600" y="4465080"/>
            <a:ext cx="683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4" y="887"/>
                </a:moveTo>
                <a:arcTo wR="10800" hR="10800" stAng="-6803064" swAng="6803064"/>
                <a:lnTo>
                  <a:pt x="10800" y="10800"/>
                </a:lnTo>
                <a:close/>
              </a:path>
              <a:path fill="none" w="21600" h="21600">
                <a:moveTo>
                  <a:pt x="6514" y="887"/>
                </a:moveTo>
                <a:arcTo wR="10800" hR="10800" stAng="-6803064" swAng="6803064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okas ir atvērta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ai satvertu kāju 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i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vēr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419640" cy="298116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21333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liel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atvēr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76720" y="4581000"/>
            <a:ext cx="122400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4581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993120" y="4292640"/>
            <a:ext cx="126540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8" y="4641"/>
                </a:moveTo>
                <a:arcTo wR="10800" hR="10800" stAng="-8713779" swAng="8052537"/>
                <a:lnTo>
                  <a:pt x="10800" y="10800"/>
                </a:lnTo>
                <a:close/>
              </a:path>
              <a:path fill="none" w="21600" h="21600">
                <a:moveTo>
                  <a:pt x="1928" y="4641"/>
                </a:moveTo>
                <a:arcTo wR="10800" hR="10800" stAng="-8713779" swAng="8052537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pilnībā izliekusi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l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175200" cy="474984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1092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sastāv no diviem izstieptiem leņķiem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ilnu leņķi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nulles leņķ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41720"/>
            <a:ext cx="1224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508640"/>
            <a:ext cx="865440" cy="8650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ēģini nosaukt vēl citus piemērus, kur dabā sastopami dažādu leņķu veidi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56360" y="2996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666"/>
                </a:solidFill>
                <a:latin typeface="Arial"/>
              </a:rPr>
              <a:t>Paldies, leņķu vārdā!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tcerēsimies! Kas ir leņķi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rodi zīmējumā vism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īs leņķu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emēra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LK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IH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N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42080" y="1600200"/>
            <a:ext cx="2539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ratists izstiepis kājas  špagatā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zstiep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387520" cy="259884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5"/>
          <p:cNvSpPr/>
          <p:nvPr/>
        </p:nvSpPr>
        <p:spPr>
          <a:xfrm>
            <a:off x="7235280" y="3068640"/>
            <a:ext cx="990360" cy="2598840"/>
          </a:xfrm>
          <a:prstGeom prst="line">
            <a:avLst/>
          </a:prstGeom>
          <a:ln w="38160">
            <a:solidFill>
              <a:srgbClr val="003366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0000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ura malas ir pretēji stari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izstiep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4724280"/>
            <a:ext cx="2735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21448800">
            <a:off x="5297040" y="450828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" y="10288"/>
                </a:moveTo>
                <a:arcTo wR="10800" hR="10800" stAng="-10636955" swAng="10636955"/>
                <a:lnTo>
                  <a:pt x="10800" y="10800"/>
                </a:lnTo>
                <a:close/>
              </a:path>
              <a:path fill="none" w="21600" h="21600">
                <a:moveTo>
                  <a:pt x="12" y="10288"/>
                </a:moveTo>
                <a:arcTo wR="10800" hR="10800" stAng="-10636955" swAng="10636955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izstiepusi kāj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ejas solī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is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390840" cy="402588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usi no izstiepta leņķa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taisn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5013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148360" y="422064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797360"/>
            <a:ext cx="2156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ziedātāja pielikusi mikrafon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uvu mutei, atstājot šaur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u starp delnu un plec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ur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73320" cy="408960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mazāks nekā taisn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šaur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1800" y="4581360"/>
            <a:ext cx="1344600" cy="657360"/>
          </a:xfrm>
          <a:custGeom>
            <a:avLst/>
            <a:gdLst/>
            <a:ahLst/>
            <a:rect l="l" t="t" r="r" b="b"/>
            <a:pathLst>
              <a:path w="847" h="414">
                <a:moveTo>
                  <a:pt x="847" y="414"/>
                </a:moveTo>
                <a:cubicBezTo>
                  <a:pt x="565" y="414"/>
                  <a:pt x="282" y="414"/>
                  <a:pt x="0" y="414"/>
                </a:cubicBezTo>
                <a:lnTo>
                  <a:pt x="770" y="0"/>
                </a:ln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360" y="4868640"/>
            <a:ext cx="430920" cy="72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40" y="158"/>
                </a:moveTo>
                <a:arcTo wR="10800" hR="10800" stAng="-4811308" swAng="4811308"/>
                <a:lnTo>
                  <a:pt x="10800" y="10800"/>
                </a:lnTo>
                <a:close/>
              </a:path>
              <a:path fill="none" w="21600" h="21600">
                <a:moveTo>
                  <a:pt x="12640" y="158"/>
                </a:moveTo>
                <a:arcTo wR="10800" hR="10800" stAng="-4811308" swAng="4811308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Baletdejotāja izpild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zā gulbīša deju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la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651640" y="2781360"/>
            <a:ext cx="3085920" cy="346716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1:34:28Z</dcterms:created>
  <dc:creator>Students</dc:creator>
  <dc:description/>
  <dc:language>en-US</dc:language>
  <cp:lastModifiedBy>Aira</cp:lastModifiedBy>
  <dcterms:modified xsi:type="dcterms:W3CDTF">2010-07-15T13:48:46Z</dcterms:modified>
  <cp:revision>6</cp:revision>
  <dc:subject/>
  <dc:title>Leņķu veidi</dc:title>
</cp:coreProperties>
</file>